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C65-DA6C-41D2-9109-75540BD0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DA6-CD53-434F-8926-477F0CE4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4B52-D855-4F43-A285-008CADB8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6666-145B-476C-B0B8-2DC18057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C715-6CE0-4CE0-8ED2-4CC3E352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FB43-64F1-4F34-A061-AF8AB0C5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7B57-B365-4370-AF77-DD069280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5886-58CD-431E-80DE-27AD3D98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E1E0-6F9E-4C81-BB55-04B28639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1343-0227-45DF-84D0-EF972DCD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7059-EA84-4FDC-A03A-4501326F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269-EAE6-4925-AA4F-3EC3C56E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E2EA-A4C1-4F65-90F9-1EBA7954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810C-0914-485A-8149-3201CD9F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2784-10AE-4FB1-8604-AAC8ED47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46F7-7557-4FC4-B3F3-C6CE2DA4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9484-9BBF-49F5-83B2-4C36B64C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890DB-A384-420B-865F-E905D3DC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97E67-C911-4E3E-98D6-6FF917A5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1ABE7-13DE-4833-A182-F1009B57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8E85C-7DB5-41EB-A93A-5792CC92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A0B5C-B3AF-4DBD-8DDE-325EE01A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BE8-9863-4F59-AB0F-8E4433C8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06A5A-6C63-4FBF-A892-D00CE8B3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2E814-6389-4554-B160-5C3D36F8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104B7-CF14-4522-BDEA-01DD120D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5B957-A4F0-4392-BCBD-58B96DCB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98CFE-348B-43C0-89EC-581206D3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FAF56-DA30-428E-9000-B8D8706F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90430-2539-49B1-B781-FA172523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CF2C4-752D-4D80-BA73-CF890023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EA665-FD3C-4F2C-B7DE-A0058CF4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2882A-2A38-445B-B937-1C495E51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CDD-7906-4DC7-ADFD-9FDE3301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93EC8-7F00-47EE-94A1-3B08FC09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C410A-1832-4205-B3D3-CFFA3F16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CF2D6-6B67-492C-B64E-27774486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F507E-6045-4E5B-8D56-850F26C8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1325F-908A-493A-87B7-356FDDA5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D6421-B772-4057-8D7E-AF3F2702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AE3DC-5F87-4591-95B8-62541834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E9AE5-80B5-450C-8FB5-80E2B8B2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095B9-2D7D-4323-B94E-02A7F9C4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066-FE51-47FA-9544-E0156230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F19-1AB7-473E-AD48-2641D2C4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00C-C1D0-4689-88DE-DC5B9C3E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405-EBFE-40B7-BA56-E4184071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E5C0-84CA-4BCC-B544-DA6F466C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7FA5-D575-47E8-874F-1F6350A83D5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E0D4-C005-4AF1-B6AE-7B2863D9736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05C9-2737-46B1-B775-2DD75E1EDB5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A891-D24F-4334-BCDD-04F7DB5F37F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380880" y="733320"/>
            <a:ext cx="8610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ing partnership among Africa RISING, NAFAKA and TUBORESHE CHAKULA Programs for fast-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duced food waste and spoi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rahim Shabani, Abass Adeba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vanus Mruma, Gabriel Ndung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ephat Kionaum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a RISING annual planning Meet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LY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Sand Hotel, Dar es sala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itle 1"/>
          <p:cNvSpPr/>
          <p:nvPr/>
        </p:nvSpPr>
        <p:spPr>
          <a:xfrm>
            <a:off x="228600" y="7621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rmers’ perceptions on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Calibri"/>
              </a:rPr>
              <a:t>postharvest ope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Table 8" descr=""/>
          <p:cNvPicPr/>
          <p:nvPr/>
        </p:nvPicPr>
        <p:blipFill>
          <a:blip r:embed="rId1"/>
          <a:stretch/>
        </p:blipFill>
        <p:spPr>
          <a:xfrm>
            <a:off x="225360" y="2305080"/>
            <a:ext cx="5492880" cy="40402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5867280" y="2362320"/>
            <a:ext cx="3276720" cy="161676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Diverse knowledge g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armers’ trai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reation and training of commodity storage specialis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tle 1"/>
          <p:cNvSpPr/>
          <p:nvPr/>
        </p:nvSpPr>
        <p:spPr>
          <a:xfrm>
            <a:off x="60948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harvest loss control pract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28600" y="2362320"/>
          <a:ext cx="5257800" cy="3817800"/>
        </p:xfrm>
        <a:graphic>
          <a:graphicData uri="http://schemas.openxmlformats.org/drawingml/2006/table">
            <a:tbl>
              <a:tblPr/>
              <a:tblGrid>
                <a:gridCol w="4114800"/>
                <a:gridCol w="1143000"/>
              </a:tblGrid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ntrol meas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raditional her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s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e-processing 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5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rtificial chemical control (Insecticides &amp; pesticides)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r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per dr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intaining hygienic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per handling/packa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Rectangle 2"/>
          <p:cNvSpPr/>
          <p:nvPr/>
        </p:nvSpPr>
        <p:spPr>
          <a:xfrm>
            <a:off x="0" y="457200"/>
            <a:ext cx="30178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5562720" y="2362320"/>
            <a:ext cx="3581280" cy="275796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Extensive use of pesticides in cereals and legu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ostharvest management training: Introduce improved methods for drying, shelling, storage,  et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nsure public health safety by investigating and providing a remedy to potential high pesticide residue in marketed cereals and legu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-360" y="1676160"/>
            <a:ext cx="5638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44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3 lead farmers were trained in Kipelesa and Ngipa  villages of Kitet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80920" indent="-514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70c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maize shelling practices aiming at reducing food loss an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ng ti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armers spend on crop process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80920" indent="-514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70c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drying technology (e.g. by using the collapsible dryer case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I:\DCIM\Camera\2015-07-02 11.43.22.jpg"/>
          <p:cNvPicPr/>
          <p:nvPr/>
        </p:nvPicPr>
        <p:blipFill>
          <a:blip r:embed="rId1"/>
          <a:stretch/>
        </p:blipFill>
        <p:spPr>
          <a:xfrm>
            <a:off x="6095880" y="2286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6095880" y="32767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PERESA VILLAGE, KITET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G:\DCIM\129___07\IMG_5076.JPG"/>
          <p:cNvPicPr/>
          <p:nvPr/>
        </p:nvPicPr>
        <p:blipFill>
          <a:blip r:embed="rId2"/>
          <a:stretch/>
        </p:blipFill>
        <p:spPr>
          <a:xfrm>
            <a:off x="607068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-360" y="1676520"/>
            <a:ext cx="5638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80920" indent="-514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  <a:ea typeface="Arial"/>
              </a:rPr>
              <a:t>3.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torage practices (e.g. use of hermetic storage bags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ctivities are going fi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I:\DCIM\Camera\2015-07-02 11.16.20.jpg"/>
          <p:cNvPicPr/>
          <p:nvPr/>
        </p:nvPicPr>
        <p:blipFill>
          <a:blip r:embed="rId1"/>
          <a:stretch/>
        </p:blipFill>
        <p:spPr>
          <a:xfrm>
            <a:off x="6477120" y="3524400"/>
            <a:ext cx="2500200" cy="3333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I:\DCIM\Camera\2015-07-02 12.01.02.jpg"/>
          <p:cNvPicPr/>
          <p:nvPr/>
        </p:nvPicPr>
        <p:blipFill>
          <a:blip r:embed="rId2"/>
          <a:stretch/>
        </p:blipFill>
        <p:spPr>
          <a:xfrm>
            <a:off x="6477120" y="7632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500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rain 48 lead farmers in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of trainers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 four  villages of Kongwa and Mvomer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intensification of maize fortification with micronutrient in areas where TUBOCHA was operating micronutrient progra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he awareness of processors on proper fortification procedur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 WORK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training of lead farmers on improved postharvest handling practices: shelling, drying and storag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public health safety of  cereals and legumes stored with pesticid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 WORK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09120" y="170604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ong expectation of farmers in return for the  information they offered; majority of the farmers were expecting food ai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ers experienced prolonged dry season and late rainfall which are thought to cause crop failure, causing reduced need for storage technologies as the household food may run-out very quickly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ALLENGES AND CONSTR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harvest management activities have just started because the harvest season for maize is June/Jul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stharvest team will keep implementing the IR 6 to improve the livelihoods of the smallholder farming communities in the project areas through reduced food loss and consumption of nutrient-dense food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LUSION  AND RECOMMENDATION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530280" y="2822400"/>
            <a:ext cx="7742160" cy="1444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s://encrypted-tbn3.gstatic.com/images?q=tbn:ANd9GcTqGbQx8ihsnIQDjkt_WTAIpj7IkuwUHV3fvUytXDUfWJ30NIiHxw"/>
          <p:cNvPicPr/>
          <p:nvPr/>
        </p:nvPicPr>
        <p:blipFill>
          <a:blip r:embed="rId2"/>
          <a:stretch/>
        </p:blipFill>
        <p:spPr>
          <a:xfrm>
            <a:off x="228600" y="685800"/>
            <a:ext cx="4876920" cy="121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s://encrypted-tbn0.gstatic.com/images?q=tbn:ANd9GcQFfRd58MYaM_0rAWLbDpwffKO1Bk9-EI7uogj0YIV6ag5K2Xx6"/>
          <p:cNvPicPr/>
          <p:nvPr/>
        </p:nvPicPr>
        <p:blipFill>
          <a:blip r:embed="rId3"/>
          <a:stretch/>
        </p:blipFill>
        <p:spPr>
          <a:xfrm>
            <a:off x="7238880" y="762120"/>
            <a:ext cx="13525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560" y="1143000"/>
            <a:ext cx="8839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OBJECTIVES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ARTNER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KEY RESULT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KEY ACHIEVEMENT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UTURE WORK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HALLENGES AND CONSTRAINTS FACED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BEST ACTIVITIES AND IMPROVEMENT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NCLUSION AND RECOMMENDATION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457200" y="533520"/>
            <a:ext cx="43434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G:\DCIM\129___07\IMG_5073.JPG"/>
          <p:cNvPicPr/>
          <p:nvPr/>
        </p:nvPicPr>
        <p:blipFill>
          <a:blip r:embed="rId1"/>
          <a:stretch/>
        </p:blipFill>
        <p:spPr>
          <a:xfrm>
            <a:off x="4775040" y="1143000"/>
            <a:ext cx="4368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8600" y="114264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food loss is a challenge that contributes to food insecurity and reduces the income of millions of smallholder farm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loss of grains and legumes ranged from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0 – 40%  at the time of harv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5% during shell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5 – 25% or up to 90% during stor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loss of  vegetables ≥ 3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or handling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inadequate storage conditions an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damage during transport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609480" y="533520"/>
            <a:ext cx="8229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0" y="1523520"/>
            <a:ext cx="4648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Many simple tools and approaches for reducing the losses exis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Uptake and adoption by smallholder farmers remain limited due to lack of awareness and skills to use the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G:\DCIM\129___07\IMG_5072.JPG"/>
          <p:cNvPicPr/>
          <p:nvPr/>
        </p:nvPicPr>
        <p:blipFill>
          <a:blip r:embed="rId1"/>
          <a:stretch/>
        </p:blipFill>
        <p:spPr>
          <a:xfrm>
            <a:off x="4724280" y="9144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203" name="Title 1"/>
          <p:cNvSpPr/>
          <p:nvPr/>
        </p:nvSpPr>
        <p:spPr>
          <a:xfrm>
            <a:off x="609480" y="533520"/>
            <a:ext cx="8229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52280" y="1599840"/>
            <a:ext cx="83059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 and provide improved innovation and technologies that improve harvesting, processing and storage of cereals and legumes to increase food security and safe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post harvest management technologies to reduce losses and bring quality up to market standar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bjectiv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28600" y="1447920"/>
          <a:ext cx="8686800" cy="4494240"/>
        </p:xfrm>
        <a:graphic>
          <a:graphicData uri="http://schemas.openxmlformats.org/drawingml/2006/table">
            <a:tbl>
              <a:tblPr/>
              <a:tblGrid>
                <a:gridCol w="533520"/>
                <a:gridCol w="2819160"/>
                <a:gridCol w="609840"/>
                <a:gridCol w="1218960"/>
                <a:gridCol w="914400"/>
                <a:gridCol w="914400"/>
                <a:gridCol w="914400"/>
                <a:gridCol w="762120"/>
              </a:tblGrid>
              <a:tr h="94644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HIEVEMENT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ber of farmers and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ber of rural households benefiting directly from USG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838080" y="6094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ARGET BENEFITI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TNER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560" y="1676160"/>
            <a:ext cx="83055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NAFAK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UBOCH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Center for Counseling, Nutrition and Health Care (COUNSENUTH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rueFoo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ee Pee (T) Ltd – PICS bag manufactur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C:\Users\Simon Boniface\Desktop\For Ibrahim\Map showing the villages.png"/>
          <p:cNvPicPr/>
          <p:nvPr/>
        </p:nvPicPr>
        <p:blipFill>
          <a:blip r:embed="rId1"/>
          <a:stretch/>
        </p:blipFill>
        <p:spPr>
          <a:xfrm>
            <a:off x="457200" y="1981080"/>
            <a:ext cx="6324480" cy="46198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212" name="Title 1"/>
          <p:cNvSpPr/>
          <p:nvPr/>
        </p:nvSpPr>
        <p:spPr>
          <a:xfrm>
            <a:off x="685800" y="3808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ticipatory diagnosis of the main postharvest problems that should be addressed by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858000" y="1981080"/>
            <a:ext cx="2057400" cy="100692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 collected from 255 farmers in 15 villag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1"/>
          <p:cNvSpPr/>
          <p:nvPr/>
        </p:nvSpPr>
        <p:spPr>
          <a:xfrm>
            <a:off x="609480" y="5335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ercent Loss at different postharvest handling sta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2840" y="1828800"/>
          <a:ext cx="6934320" cy="2629080"/>
        </p:xfrm>
        <a:graphic>
          <a:graphicData uri="http://schemas.openxmlformats.org/drawingml/2006/table">
            <a:tbl>
              <a:tblPr/>
              <a:tblGrid>
                <a:gridCol w="1371600"/>
                <a:gridCol w="1066680"/>
                <a:gridCol w="533520"/>
                <a:gridCol w="685800"/>
                <a:gridCol w="609480"/>
                <a:gridCol w="685800"/>
                <a:gridCol w="654120"/>
                <a:gridCol w="588960"/>
                <a:gridCol w="738360"/>
              </a:tblGrid>
              <a:tr h="105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eld loss (insects, rodents &amp; fungi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ck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ckag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ok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lo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geon pe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flo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-si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. nu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rghu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2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7086600" y="1828800"/>
            <a:ext cx="1981080" cy="184428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9-20% loss of foo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ostharvest loss prevention technologies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0:24:56Z</dcterms:created>
  <dc:creator>Kinyoro Ibrahim</dc:creator>
  <dc:description/>
  <dc:language>en-US</dc:language>
  <cp:lastModifiedBy>Odhong, Jonathan (IITA)</cp:lastModifiedBy>
  <dcterms:modified xsi:type="dcterms:W3CDTF">2015-07-10T14:54:12Z</dcterms:modified>
  <cp:revision>60</cp:revision>
  <dc:subject/>
  <dc:title>Slide 1</dc:title>
</cp:coreProperties>
</file>